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EC2A-C6BC-43B6-AB22-D33AE1EE5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1C03-F146-4941-9427-068654C2A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93AD-CCBA-4E4F-A849-6A4CC01C9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FA51-0AE9-44A0-AA56-12C168C0A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C3E7E-6CDE-4E46-8D7D-F2B5383FA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E3116-3941-4F5C-8CB0-D345F84B9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33476-CB36-4F30-B8D3-7DF588E6E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E5E0E-1C66-4765-93C1-76FA4ADEE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8D037-E60B-4C2B-BC90-A77EF88A2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2F18A-5103-47FA-84B1-6E77D028F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B2BF9-FD17-4F3D-A0D8-1746DF0C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7148-0257-4178-B1D6-65E8E214C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0DD30-5C26-4F45-A2DF-BCB61B30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7CB6E-74A3-422E-9EF6-4A6176AD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EA3F8-AF1F-46AA-93AB-5C4BBE1A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8F5B7-206B-4220-9D6E-D52B0C3DC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B5F02-61FB-4350-BE51-261EE682D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74C4-EE14-41C8-A94B-F98804173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8C7D-DFCB-46C4-BA12-FA948F611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F5F8-B081-4A79-B0DA-AE02CF071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6849-1752-4DAF-A0BC-7A118F842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9170-BD8C-4B8D-BA82-DFEBFC1C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E573-076F-4179-A557-2EB48ACB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1117-8D6F-4A52-9B56-49343D5A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B744-9F45-4063-9CE4-7DBFF51B316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B2B1B-11DC-4DB5-A71B-41F7C4D224B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147024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KFC’s propos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590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y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Yu R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Hyung R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eong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hl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Yuan 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What we found out </a:t>
            </a:r>
            <a:br>
              <a:rPr sz="3200"/>
            </a:b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in our research?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One bowl of rice contains 150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MS Gothic"/>
              </a:rPr>
              <a:t>±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15g, a person eats about 3 bowls per day which makes it 300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MS Gothic"/>
              </a:rPr>
              <a:t>±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MS Gothic"/>
              </a:rPr>
              <a:t>30g per person per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MS Gothic"/>
              </a:rPr>
              <a:t>300 ±30g x200±50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c0039"/>
                </a:solidFill>
                <a:latin typeface="Arial"/>
              </a:rPr>
              <a:t>What is it the best solution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c0039"/>
                </a:solidFill>
                <a:latin typeface="Arial"/>
              </a:rPr>
              <a:t>Why is it the best solution?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c0039"/>
                </a:solidFill>
                <a:latin typeface="Arial"/>
              </a:rPr>
              <a:t>How we found the solution (justification)?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itation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5640" y="1143000"/>
            <a:ext cx="6553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or the past few weeks KFC had being aiming to design, and price, a water and grain storage facility for a village that has fifty famil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storage facility must be able to contain a two week supply of water and gr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walls and roof of the facility will be made out of metal sheet that costs $14 per m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facility must be placed on a 20cm thick concrete floor. The concrete costs $640 per m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e must make every effort to keep the cost as low as possi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How many people’s in a family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had shown that the average population of a family is around 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(two adults and two childr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fore 50x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±1=200±50 people are included in this 50 fami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590920" y="1752480"/>
            <a:ext cx="56768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Water Storag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What we found out </a:t>
            </a:r>
            <a:br>
              <a:rPr sz="3200"/>
            </a:b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in our research?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person needs ab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er (35 lit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ilet (8 liters) do they have 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king (.5 li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hing (3lit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c0039"/>
                </a:solidFill>
                <a:latin typeface="Arial"/>
              </a:rPr>
              <a:t>What is it the best solution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li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c0039"/>
                </a:solidFill>
                <a:latin typeface="Arial"/>
              </a:rPr>
              <a:t>Why is it the best solution?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c0039"/>
                </a:solidFill>
                <a:latin typeface="Arial"/>
              </a:rPr>
              <a:t>How we found the solution (justification)?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086280" y="914400"/>
            <a:ext cx="491472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Grain storag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9T03:35:03Z</dcterms:created>
  <dc:creator>Yuan ke</dc:creator>
  <dc:description/>
  <dc:language>en-US</dc:language>
  <cp:lastModifiedBy>sony</cp:lastModifiedBy>
  <dcterms:modified xsi:type="dcterms:W3CDTF">2008-11-29T16:29:19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